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BDAE-4DD4-440A-BB17-B5CFEBD9B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996C-20C9-4DB0-9354-9A791B258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E631-ADF8-4A51-92AD-54DCA52E5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D0E0-DAC2-43E6-8D38-4355C389D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DB8B-0554-4ABF-84D6-BB7A35F0A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F224-D3ED-48C5-89EE-0D62AFF6A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80D3-9E03-433E-AE94-6974868CC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4F5A-ECDE-4E54-AA65-D8CFBB5A8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5D7B-017C-4664-982D-EAD81FBD6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826D-41CD-4581-9E38-E4A68A96E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6F32-7E14-4D46-B1E2-84C2A1339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5AA8-45AA-47D8-B7E3-55BD9047E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23A8-33AF-4C35-8D7A-9AB79D522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3FC4-1BDF-4655-9EB0-F2BF0CE2E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2219-43BB-4C62-A749-DE287E8C4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B665-6E21-40BA-8843-C2A5AAF51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0045-AC68-424F-A447-2070599A4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6291-6607-4EFA-9394-E96AA773F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BC61-2D8C-4008-8106-174F8079E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939-8A22-46D0-8647-DAE10EC2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964-BC79-4140-AE0C-77A42086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B13-0DAB-4CA5-B976-1CAA7168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AD2-8728-4F06-97E4-7C745CF7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5461-F73D-4364-A9D1-1FBAFD1A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66B8-FCAB-4DF7-8C10-395FC8E3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DF62-10BE-4150-90B9-05719FE6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1E55-5790-4359-9E68-47E28A82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35E9-D3D1-4521-AE67-168BB03C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B145-CE75-4321-AC4E-2B042568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027C-A804-4AF3-820C-222E0C38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4D6-5092-4B8F-B4B6-304FA760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5424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0628-2F79-4354-87BC-E86B31BE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AA5B-DB9D-4C98-B9AE-186372F2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BDA8-BE04-465A-AFA6-4A6D1BDA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5424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56F9-E898-4A89-BCAC-D559C75D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616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616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332C-3725-4CB6-BFBB-139680E1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2DCC3-9F6C-43A6-A777-C85A856C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FE29A-EB4F-444D-9F55-7013C50E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581DD-459F-44C7-A76F-5D978ABD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18751-3E4B-4127-87E4-EB15359A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26685-403D-4172-BE27-84B72C5A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286-8A36-4B70-8E12-2EB73491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7DB02-288E-442E-8169-2C3D669F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B5F11-7A3A-46C5-B161-DFA22C8A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5424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58292-4133-4BBF-A4DF-4648994F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3C841-D36E-4683-BF9F-3DA02998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62F7F-CDFA-41FE-A348-514B7623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5424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AD501-5BBF-4C9D-8564-7B611E4B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616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6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616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6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A6B62-9D5E-4913-A793-712F4BA3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B9162-D6CB-4927-BB9D-6D4FBF96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CE2D8-8997-4E8C-B9A4-E217B49E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B3669-C8D8-4AA2-A005-1A74CDEB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5A06-FDFE-4E5F-A9D0-8EEB059F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030AE-4A7C-4C7D-BA6A-2A6A48DD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A63B7-30D9-4478-BB2D-129EAB7F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AB5D7-EEED-4DB4-A091-D4D53F9E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B3981-9FD0-46E1-9BF8-CB67C329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5424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F7457-D570-4160-900E-22C49C1E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86E25-C03E-41E1-88A6-FFDED8A3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B64ED-C5A9-4C48-8ED7-BFA1DA08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5424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FC8AD-C938-4E95-BA2F-E1049BDC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616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6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616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6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A8BB1-E5E3-4DB8-B426-1126EEFF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743B-4DA8-4CED-8B4B-B4DE0CEC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89F-E421-405D-8E45-02B101D5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03A-6F30-4EBB-B97F-0053134F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F81-9BC9-4C25-A254-89D6D3B0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DB4-F6DA-428F-9AC5-C68CF114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5066-7675-476B-B082-53EC82F13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F10B-5286-4896-AA9A-48E83704B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B753-0C57-4A05-A4D3-75F4613380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366F-0B36-4F1C-94D2-D20D1884D2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520" y="1752120"/>
            <a:ext cx="678168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Unit 6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art 1 Evolu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76520" y="373392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rwin’s Theory of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opulation Growth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economist, Malthus, published a book, noting that babies were being born faster than people were d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stated that if the human population continued to grow unchecked, sooner or later there would be insufficient living space &amp; food for every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arwin Presents His Cas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win published the results of his work in a book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n the Origin of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his book, he proposed a mechanism for evolution called natural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stated that evolution has been taking place for millions of years, &amp; continues in all living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herited Variation &amp; Artificial Selec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tificial sel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nature provided the variation, &amp; humans selected those variations that they found use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produced diver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ts &amp; animals b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vely breeding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different tra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4" descr="Natural Variation in Species"/>
          <p:cNvPicPr/>
          <p:nvPr/>
        </p:nvPicPr>
        <p:blipFill>
          <a:blip r:embed="rId1"/>
          <a:stretch/>
        </p:blipFill>
        <p:spPr>
          <a:xfrm>
            <a:off x="5715000" y="3619440"/>
            <a:ext cx="3429000" cy="3238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olution by Natural Selec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ruggle for exist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members of each species compete regularly to obtain food, living space, &amp; other necessities of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ators that are faster &amp; better at catching prey are 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ly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v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Survival of the Fittest"/>
          <p:cNvPicPr/>
          <p:nvPr/>
        </p:nvPicPr>
        <p:blipFill>
          <a:blip r:embed="rId1"/>
          <a:stretch/>
        </p:blipFill>
        <p:spPr>
          <a:xfrm>
            <a:off x="4038480" y="4741920"/>
            <a:ext cx="5105520" cy="2116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olution by Natural Selec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tn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ability of the organism to survive &amp; reproduce in its specific envi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tness is the result of adap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olution by Natural Selec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ap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ny inherited characteristic that increases an organisms’ chance of survi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essful adaptations allo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ms to become bett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ted to their environ. &amp; thu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able to surv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Walking-leaf Insect"/>
          <p:cNvPicPr/>
          <p:nvPr/>
        </p:nvPicPr>
        <p:blipFill>
          <a:blip r:embed="rId1"/>
          <a:stretch/>
        </p:blipFill>
        <p:spPr>
          <a:xfrm>
            <a:off x="6431040" y="3124080"/>
            <a:ext cx="2712960" cy="3733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olution by Natural Selec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s that are better suited to their environ., with adaptations that enable fitness, survive &amp; reproduce most successfully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vival of the Fit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4" descr="Survival of the Fittest1"/>
          <p:cNvPicPr/>
          <p:nvPr/>
        </p:nvPicPr>
        <p:blipFill>
          <a:blip r:embed="rId1"/>
          <a:stretch/>
        </p:blipFill>
        <p:spPr>
          <a:xfrm>
            <a:off x="2514600" y="4078440"/>
            <a:ext cx="4343400" cy="2779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olution by Natural Selec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it is similar to artificial selection, Darwin referred to survival of the fittest as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tural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oth AS &amp; NS, only certain individuals of a population produce new individ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olution by Natural Selec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in NS, the traits being selected, &amp; therefore, increasing over time, contribute to an organism’s fi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 takes place without human control or dir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olution by Natural Selec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 results in changes in the inherited characteristics of a population, that increase a species’ fitness in its envi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time, NS produces organisms that have different structures, &amp; occupy different habit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Puzzle of Life’s Diversity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modern organisms have descended from ancient organisms (change over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 well-supported, testable explanation of phenomena that have occurred in the natural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olution by Natural Selec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result, species today look different from their ances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iving species has descended, with changes, from other species over time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cent with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olution by Natural Selec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ent with modification also implies that all living organisms are related to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mon desc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ll species (living &amp; extinct) were derived from common ances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idence of Evolu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win argued that living things have been evolving on Earth for millions of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of this could be found: in the fossil record, the geographical distribution of living species, homologous structures of living organisms, &amp; similarities in early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idence of Evolu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ssil Recor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win noticed that the sizes, shapes, &amp; varieties of related organisms preserved in the fossil record, changed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The Fossil Record"/>
          <p:cNvPicPr/>
          <p:nvPr/>
        </p:nvPicPr>
        <p:blipFill>
          <a:blip r:embed="rId1"/>
          <a:stretch/>
        </p:blipFill>
        <p:spPr>
          <a:xfrm>
            <a:off x="1447920" y="4051440"/>
            <a:ext cx="6032520" cy="2806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idence of Evolu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graphic Distribution of Living Spe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win realized that similar animals in different locations were the product of different lines of evolutionary d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idence of Evolu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ologous Body Structu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mologous struc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structures that have different mature forms but develop from the same embryonic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ll homologous structures serve importan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s of many animals are so reduced in size that they are just vestiges, or traces, of homologous org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mologous Structur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028" descr="Homologous Structures"/>
          <p:cNvPicPr/>
          <p:nvPr/>
        </p:nvPicPr>
        <p:blipFill>
          <a:blip r:embed="rId1"/>
          <a:stretch/>
        </p:blipFill>
        <p:spPr>
          <a:xfrm>
            <a:off x="0" y="1876320"/>
            <a:ext cx="9144000" cy="4702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idence of Evolu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ologous Body Structu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stigial org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may resemble miniature legs, tails, or other structures, a trace of a homologous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Ex of Vestigial Organs"/>
          <p:cNvPicPr/>
          <p:nvPr/>
        </p:nvPicPr>
        <p:blipFill>
          <a:blip r:embed="rId1"/>
          <a:stretch/>
        </p:blipFill>
        <p:spPr>
          <a:xfrm>
            <a:off x="1066680" y="4152960"/>
            <a:ext cx="6946920" cy="2705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idence of Evolu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ities in Early Develop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rly stages or embryos, of many animals with backbones are very simi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4" descr="Similarities in Embryology"/>
          <p:cNvPicPr/>
          <p:nvPr/>
        </p:nvPicPr>
        <p:blipFill>
          <a:blip r:embed="rId1"/>
          <a:stretch/>
        </p:blipFill>
        <p:spPr>
          <a:xfrm>
            <a:off x="1447920" y="3790800"/>
            <a:ext cx="6387840" cy="3067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ummary of Darwin’s Theory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organisms differ, &amp; some of this variation is heri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sms produce more offspring than can survive, &amp; many that do survive do not repro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oyage of th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gl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les Darwin contributed most to our understanding of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made observations &amp; collected evidence that led him to propose a hypothesis about the way life changes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Darwin's Voyage"/>
          <p:cNvPicPr/>
          <p:nvPr/>
        </p:nvPicPr>
        <p:blipFill>
          <a:blip r:embed="rId1"/>
          <a:stretch/>
        </p:blipFill>
        <p:spPr>
          <a:xfrm>
            <a:off x="3886200" y="4624560"/>
            <a:ext cx="5257800" cy="2233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ummary of Darwin’s Theory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more organisms are produced than can survive, they compete for limited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s best suited to their environ., survive &amp; reproduce most successfu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ummary of Darwin’s Theory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organisms pass their heritable traits to their offsp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ocess of NS causes species to change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ummary of Darwin’s Theory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es alive today are descended with modification from ancestral species that lived in the distant p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ocess, where diverse species evolved from common ancestors, unites all organisms on Earth into a single tree of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895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Unit 6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art 2 Speci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r more populations of individuals that can inter breed under natural conditions and produce fertile offspring.  Different species may arise from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genetic diverg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pop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enetic Divergenc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divergence is the process whereby local individuals of a population become reproductively isolated from other individuals and thus experience changes in gene frequencies between the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environments are different between isolated units then natural selection, mutations, and genetic drift will work independently on each.  This will speed up genetic divergence and spec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solating mechanisms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sms that lead to, or cause genetic divergence by preventing interbreeding between two grou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long as two groups do not interbreed  their gene pools will continue to drift further and further apar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onger two species are genetically isolated from each other the more different they become from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solating mechanism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ing mechanisms can be divided into two different typ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ing mechanisms that occur before fertilization are called Prezygotic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ing mechanisms that occur after fertilization are called postzygotic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ypes of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 Prezygotic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solating mechanism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4048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havioral iso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otential mates meet but cannot figure out what to do about it because patterns of courtship may be altered to the extent that sexual union is not 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8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4048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mporal iso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(Time) Different groups overlap in range but may not be reproductively mature in the same sea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8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4048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chanical iso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otential mates attempt engagement but sperm cannot be successfully transferred .  This may be due to differences in reproductive org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ypes of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 Prezygotic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solating mechanisms cont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metic iso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perm is transferred but sperm and egg are incompa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logical iso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otential mates never meet because they live in different habit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oyage of th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gl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ypothesis, now supported by a large amount of evidence, has become the theory of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ypes of 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Postzygotic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isolating mechanism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ygotic morta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gg is fertilized but zygote does not develop properly, dies before birth because parents are genetically incompa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ybrid invi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ybrid very weak and can’t live outside the uter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ybrid offsp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ybrid is ster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tion occurs when a species gives rise to one or more different spec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hree main speciation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atric spe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patric spe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llopatric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patric (Allo= different, Patric=homeland) Populations are separated due to geographical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ers, earthquakes, continental drift, glaciation, archipelagos cause allopatric spec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ve fis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rwin’s fin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elope squirrels of the Grand Cany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thmus of Pana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ympatric speci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atric (Sym = same, Patric=homeland) speciation occurs in the same geographical region without physical iso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w species can arise in a single generation if a genetic change produces a reproductive barrier between mutants and the parent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Accidents during cell division that result in extra sets of chromosomes (Polyploidy).  Self-fertilization can give rise to new individuals that are unable to mate and form fertile off-spring with the parent 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arapatric Speci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patric (Para = near, Patric=homeland) neighboring populations become distinct species while maintaining contact through Hybrid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hybrid zone is removed through increased natural selection, natural disasters or some other means the extremes of a population fail to 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ad population along the north rim of the Gr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y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ranching and unbranched evolu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ladogene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Branched evolution. Occurs as populations split and become reproductively isolated from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Anagene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Unbranched evolution.  Occurs as changes in allele frequency and morphology accumulate over long periods of time.  New species do not live within the same time peri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6"/>
          <p:cNvSpPr/>
          <p:nvPr/>
        </p:nvSpPr>
        <p:spPr>
          <a:xfrm>
            <a:off x="5105520" y="2895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7"/>
          <p:cNvSpPr/>
          <p:nvPr/>
        </p:nvSpPr>
        <p:spPr>
          <a:xfrm flipV="1">
            <a:off x="59436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685800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5943600" y="2514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7238880" y="2590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7238880" y="2133720"/>
            <a:ext cx="1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7240320" y="2133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7235280" y="2971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029200" y="46483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036040" y="4343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310080" y="43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676640" y="4253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4876920" y="4876920"/>
            <a:ext cx="364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ed species are only seen in the fossil 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nsitional Form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es which are intermediate in body form between two groups of organis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es that are intermediate in time in the fossil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4" descr="archie2"/>
          <p:cNvPicPr/>
          <p:nvPr/>
        </p:nvPicPr>
        <p:blipFill>
          <a:blip r:embed="rId1"/>
          <a:stretch/>
        </p:blipFill>
        <p:spPr>
          <a:xfrm>
            <a:off x="4648320" y="2435400"/>
            <a:ext cx="3809880" cy="32050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5547240" y="560376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Archaeoptery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cc00"/>
                </a:solidFill>
                <a:latin typeface="Times New Roman"/>
              </a:rPr>
              <a:t>Archaeopteryx</a:t>
            </a:r>
            <a:br>
              <a:rPr sz="4000"/>
            </a:br>
            <a:r>
              <a:rPr b="0" i="1" lang="en-US" sz="3200" spc="-1" strike="noStrike">
                <a:solidFill>
                  <a:srgbClr val="00cc00"/>
                </a:solidFill>
                <a:latin typeface="Times New Roman"/>
              </a:rPr>
              <a:t>Intermediate between birds and dinosaurs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aeopteryx lived after the development of dinosaurs but before that advent of bi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aeopteryx contains features that are both characteristic of reptilian dinosaurs as well as modern birds.  Some features are half way inbetw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457200" y="609480"/>
          <a:ext cx="8381880" cy="5396040"/>
        </p:xfrm>
        <a:graphic>
          <a:graphicData uri="http://schemas.openxmlformats.org/drawingml/2006/table">
            <a:tbl>
              <a:tblPr/>
              <a:tblGrid>
                <a:gridCol w="2171880"/>
                <a:gridCol w="1409400"/>
                <a:gridCol w="259092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Fe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Bi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Archaeoptery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Coelurosa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8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9ea8"/>
                          </a:solidFill>
                          <a:latin typeface="Times New Roman"/>
                          <a:ea typeface="ヒラギノ角ゴ Pro W3"/>
                        </a:rPr>
                        <a:t>Body cove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Fea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Fea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Scales (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9ea8"/>
                          </a:solidFill>
                          <a:latin typeface="Times New Roman"/>
                          <a:ea typeface="ヒラギノ角ゴ Pro W3"/>
                        </a:rPr>
                        <a:t>Metatars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F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Partly f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Not f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9ea8"/>
                          </a:solidFill>
                          <a:latin typeface="Times New Roman"/>
                          <a:ea typeface="ヒラギノ角ゴ Pro W3"/>
                        </a:rPr>
                        <a:t>B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Hollow and pneum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Hollow, not pneum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Not hollow or pneum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9ea8"/>
                          </a:solidFill>
                          <a:latin typeface="Times New Roman"/>
                          <a:ea typeface="ヒラギノ角ゴ Pro W3"/>
                        </a:rPr>
                        <a:t>Clav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Fused (wishbo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Fused (wishbo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Not f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9ea8"/>
                          </a:solidFill>
                          <a:latin typeface="Times New Roman"/>
                          <a:ea typeface="ヒラギノ角ゴ Pro W3"/>
                        </a:rPr>
                        <a:t>Ster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Large, ke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Small, no ke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Small, no ke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9ea8"/>
                          </a:solidFill>
                          <a:latin typeface="Times New Roman"/>
                          <a:ea typeface="ヒラギノ角ゴ Pro W3"/>
                        </a:rPr>
                        <a:t>Abdominal ri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tempo of speci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Phyletic gradual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ew species develop slowly and gradually as an entire species changes over time. This idea was asserted by Darw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Punctuated equilibr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his theory states that new species arise suddenly and rapidly as small subpopulations of a species split from the populations of which they were a p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arwin’s Observation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win collected the preserved remains of ancient organisms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ss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f these fossils resembled organisms that were still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 looked unlike any creature ever s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Fossil remains of Giant Sloth"/>
          <p:cNvPicPr/>
          <p:nvPr/>
        </p:nvPicPr>
        <p:blipFill>
          <a:blip r:embed="rId1"/>
          <a:stretch/>
        </p:blipFill>
        <p:spPr>
          <a:xfrm>
            <a:off x="5486400" y="4684680"/>
            <a:ext cx="3657600" cy="2173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arwin’s Observation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alapagos Islands influenced Darwin the m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observed that the characteristics of animals &amp; plan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ed amo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the differe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l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Galapagos Islands"/>
          <p:cNvPicPr/>
          <p:nvPr/>
        </p:nvPicPr>
        <p:blipFill>
          <a:blip r:embed="rId1"/>
          <a:stretch/>
        </p:blipFill>
        <p:spPr>
          <a:xfrm>
            <a:off x="4343400" y="3825720"/>
            <a:ext cx="4800600" cy="3032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n Ancient, Changing Earth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tton &amp; Lyell helped scientists recognize that Earth is millions of years 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lso noted that the processes that changed Earth in the pa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re the same process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at are changing Eart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" descr="Geological Change"/>
          <p:cNvPicPr/>
          <p:nvPr/>
        </p:nvPicPr>
        <p:blipFill>
          <a:blip r:embed="rId1"/>
          <a:stretch/>
        </p:blipFill>
        <p:spPr>
          <a:xfrm>
            <a:off x="5867280" y="4308480"/>
            <a:ext cx="3276720" cy="2549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amarck’s Evolution Hypothesi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year that Darwin was born, Lamarck published his hypo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proposed that by selective use or disuse of organs, organisms acquired or lost certain traits during their life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time, this process led to change in a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amarck’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Explan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Lamarck's Hypotheses"/>
          <p:cNvPicPr/>
          <p:nvPr/>
        </p:nvPicPr>
        <p:blipFill>
          <a:blip r:embed="rId1"/>
          <a:stretch/>
        </p:blipFill>
        <p:spPr>
          <a:xfrm>
            <a:off x="1523880" y="0"/>
            <a:ext cx="34862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3:19:56Z</dcterms:created>
  <dc:creator>JPS</dc:creator>
  <dc:description/>
  <dc:language>en-US</dc:language>
  <cp:lastModifiedBy>leanne</cp:lastModifiedBy>
  <cp:lastPrinted>2006-03-21T13:46:56Z</cp:lastPrinted>
  <dcterms:modified xsi:type="dcterms:W3CDTF">2010-02-15T18:13:02Z</dcterms:modified>
  <cp:revision>16</cp:revision>
  <dc:subject/>
  <dc:title>Unit 5 Evolution</dc:title>
</cp:coreProperties>
</file>